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FF7-CE81-4DCB-A019-E199963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0CC-2650-49AA-B073-A63B6E5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346-341F-485F-9DB9-7E1C87B0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FD9-BC96-4E30-95F2-7E05D40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A7E-D6FE-4883-A648-30F056E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C50-5B79-41A9-BBF0-08D3A973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88A-AD4D-45FC-8E1F-4BCE2E1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BF-6D42-4FB1-9A33-2903727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091-6BD4-4BD0-B2CB-58EB521A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F5B-835E-4244-9F4B-8C2E00D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2A5-F6A5-4C60-84EA-CC71AC4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4C5-5250-48C9-A2A2-4D323AA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D2E2-8C8D-474C-9612-9561D80511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مشروع تصميم درس بطرق معلوماتية</a:t>
            </a:r>
            <a:br>
              <a:rPr sz="2400"/>
            </a:b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ADDIE</a:t>
            </a: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حسب نمودج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63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تحليل المشروع</a:t>
            </a: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1 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هدف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تحقيق كفاية معينة مرتبطة بموضوع التنفس وفق الاطار المرجع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للسنة 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2 –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فئة المستهدف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تلامدة السنة 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لهم مكتسبات سابقة حول الموضوع في السلك الابتدائ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ولهم مستوى دزاسي ضعيف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3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موضوع :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التنفس في أوساط مختلف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دة الانجاز :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ساعات   موزعة على ثلات حصص أسبوعي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4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ظروف العمل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خارج أوقات العمل في البيت و في المركز المغربي الكور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5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وسائل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- الحاسوب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ؤطري المركز المغربي الكور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تخصص في البرمجة المعلوماتي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دة إنجاز المشروع : شهران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تخطيط : شهر – الإنجاز : أسبوعان – التطبيق : أسبوع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الموضوع : التنفس في أوساط 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1052640"/>
          <a:ext cx="8218440" cy="60973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السيناريو</a:t>
                      </a:r>
                      <a:r>
                        <a:rPr b="0" lang="ar-MA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التصميم</a:t>
                      </a:r>
                      <a:r>
                        <a:rPr b="1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الكفاية وفق الاطار المرجع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حضار مكتسبات التلاميد و تمتلاتهم حول 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مشكل علمي يتعلق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هداف المحددة في البرنامج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وزيع الاهداف إلى حصص دراسية حسب الغلاف الزمن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 الوسائل الممكن توضيفها لبناء الكفا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متدادات أفقية وإمتدادات عمودي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ال لكفاية نوعية مرتبط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نات القبلية التي لها علاق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شكل علم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هداف المرتبط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ص الدراسية المرتبطة بالموضوع وغلافها الزمن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إبراز التبادلات الغازية التنفسية بين   الكاءن الحي ووسط عيشه / ساع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التنفس في الوسط الهوائي : عند   الانسان والحلزون والجراد والنبات  /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عات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التنفس في الوسط المائي : عند                السمكة ونبات مائي / ساعتان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عينات الديدكتيكي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متدادات 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 u="sng">
                <a:solidFill>
                  <a:srgbClr val="ff3300"/>
                </a:solidFill>
                <a:uFillTx/>
                <a:latin typeface="Arial"/>
              </a:rPr>
              <a:t>الحصة </a:t>
            </a:r>
            <a:r>
              <a:rPr b="0" lang="ar-MA" sz="2400" spc="-1" strike="noStrike" u="sng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0" lang="ar-MA" sz="2400" spc="-1" strike="noStrike">
                <a:solidFill>
                  <a:srgbClr val="ff3300"/>
                </a:solidFill>
                <a:latin typeface="Arial"/>
              </a:rPr>
              <a:t> :إبراز التبادلات الغازية التنفسية بين الكائن الحي ووسط عيش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803160"/>
          <a:ext cx="8229600" cy="606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ناريو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صميم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حضار مكتسبات التلاميد السابقة وتمتلاتهم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بات القبل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ديد الأهداف حسب الإطار المرجعي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هداف التعلم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وضيف كل الوسائل لتحقيق الاهداف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عامات الديداكتيك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وضعية مشكلة تتضمن تساؤلات  محفزةعلى إنجاز الأنشط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ية مشكل ديدكتيك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إنجاز أنشطة للإجابة عن التساؤلات المطروحة في وضعية المشكل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نشطة المقترحة لحل وضعية</a:t>
                      </a:r>
                      <a:r>
                        <a:rPr b="0" lang="ar-M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كل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ظ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قويم تكويني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مخطط القصة للحصة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92280"/>
          <a:ext cx="8507160" cy="5452920"/>
        </p:xfrm>
        <a:graphic>
          <a:graphicData uri="http://schemas.openxmlformats.org/drawingml/2006/table">
            <a:tbl>
              <a:tblPr/>
              <a:tblGrid>
                <a:gridCol w="1371600"/>
                <a:gridCol w="871560"/>
                <a:gridCol w="934920"/>
                <a:gridCol w="865080"/>
                <a:gridCol w="863640"/>
                <a:gridCol w="360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دقيق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عطيات علم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جربة /مناو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ديو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ص / صور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صميم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بات القبل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هداف التعلم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عامات الديداكتيك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ية مشكل ديدكتيك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نشطة المقترحة لحل وضعية المشكل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ظ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قويم تكويني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0:16:15Z</dcterms:created>
  <dc:creator>Hamid</dc:creator>
  <dc:description/>
  <dc:language>en-US</dc:language>
  <cp:lastModifiedBy>Hamid</cp:lastModifiedBy>
  <dcterms:modified xsi:type="dcterms:W3CDTF">2010-11-04T00:06:41Z</dcterms:modified>
  <cp:revision>14</cp:revision>
  <dc:subject/>
  <dc:title>مشروع تصميم درس بطرق معلوماتية ADDIEنمودج  </dc:title>
</cp:coreProperties>
</file>